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88C-04CC-4F54-A22E-EC859695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E81-F6BB-44F6-A287-52B33F53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55C-2F95-4251-B947-F1215932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50E-6CDF-4699-8EBE-B74AE34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B70-4C60-42AE-BD79-762AAAEB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CEF-9E4C-4BAC-9666-7AEFB19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0E1-751B-4201-BE78-488FE98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533-9110-4E3E-9BD0-455CA78E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8C8-24A9-483E-9C0C-A6D184C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F88-AA1F-4EBF-BAEA-C2F4313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E6A-8339-45CF-BDD7-44084AC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0CE-2F27-4CA3-9B1F-EF53CB0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EDD-8A10-4627-8C47-4741D9D8E3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Primjer.xlsx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erstebank.hr/hr/gradjanstvo/krediti/stambeni-krediti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820360" cy="30956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Festival znanosti Festival robotike Financijska pismenost</a:t>
            </a:r>
            <a:br>
              <a:rPr sz="6000"/>
            </a:b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TEHNIČKA ŠKOLA RUĐERA BOŠKOVIĆA</a:t>
            </a:r>
            <a:br>
              <a:rPr sz="2400"/>
            </a:b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12. travnja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560" y="4365360"/>
            <a:ext cx="878508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Jadranka Didović, profesor savjet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Goran Knez, profesor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Gimnazija Žup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557000"/>
            <a:ext cx="8820000" cy="18003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menti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0" spc="-1" strike="noStrike">
                <a:solidFill>
                  <a:srgbClr val="990000"/>
                </a:solidFill>
                <a:latin typeface="Arial"/>
              </a:rPr>
              <a:t>83 31 3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KREDIT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je bankarski proizvod koji je većini potreban u nekom životnom trenutku.</a:t>
            </a:r>
            <a:br>
              <a:rPr sz="2800"/>
            </a:b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Krediti se uzimaju za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različite svrhe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, npr.  ako novac služi za kupovinu nekretnine, riječ je o stambenom kreditu koji se uglavnom ugovara na dulji rok (do 30 godina), a nekretnina je instrument  osiguranja.</a:t>
            </a:r>
            <a:br>
              <a:rPr sz="2800"/>
            </a:b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Banka odobrava kredit samo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kreditno sposobnim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pojedincima koji imaju stalna  mjesečna primanja u Hrvatsk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Pregled otplaćivanja kredita daje se u tzv. 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OTPLATNOJ TABLICI 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.</a:t>
            </a:r>
            <a:br>
              <a:rPr sz="2800"/>
            </a:b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Kod svakog modela otplate kredita u  otplatnoj tablici vrijed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suma svih otplatnih kvota jednaka je iznosu  kred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suma svih anuiteta jednaka je sumi ukupnih  kamata i sumi otplatnih k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KAMATA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je naknada koju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dužnik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mora  platiti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vjerovniku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(kreditoru, banci) zato što  mu je na određeno vrijeme ustupio pravo  raspolaganja nekim iznosom nov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Kredit možemo otplaćivati u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ratama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ili otplatom u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anuitetima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. I anuiteti i rate su  mjesečne otplate kredita, ali su različito  formirane i značajno utječu na iznos  otplate kred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528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ANUITETI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su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jednaki mjesečni obroci 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što ih klijent (dužnik) svaki mjesec uplaćuje banci na  ime obveze kredita.</a:t>
            </a:r>
            <a:br>
              <a:rPr sz="2800"/>
            </a:b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Sastoje od dijela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glavnice i kamate 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na preostalu  glavni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Svakom otplatom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mijenja se struktura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 anuiteta tj. omjer kamate i glavnice, na način da se smanjuje udio kamate u otplaćivanju, a povećava se udio glavn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Na početku otplate kredita u anuitetima uvijek se  uplaćuje </a:t>
            </a:r>
            <a:r>
              <a:rPr b="1" lang="sr-Latn-RS" sz="2800" spc="-1" strike="noStrike">
                <a:solidFill>
                  <a:srgbClr val="990000"/>
                </a:solidFill>
                <a:latin typeface="Arial"/>
              </a:rPr>
              <a:t>najvećim dijelom kamata</a:t>
            </a:r>
            <a:r>
              <a:rPr b="0" lang="sr-Latn-RS" sz="2800" spc="-1" strike="noStrike">
                <a:solidFill>
                  <a:srgbClr val="990000"/>
                </a:solidFill>
                <a:latin typeface="Arial"/>
              </a:rPr>
              <a:t>, a manjim  dijelom glav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990000"/>
                </a:solidFill>
                <a:latin typeface="Arial"/>
              </a:rPr>
              <a:t>RATA</a:t>
            </a: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 je promjenjiva tijekom razdoblja otplate  kredita. </a:t>
            </a:r>
            <a:br>
              <a:rPr sz="2800"/>
            </a:b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Svakom mjesečnom otplatom, </a:t>
            </a:r>
            <a:r>
              <a:rPr b="1" lang="hr-BA" sz="2800" spc="-1" strike="noStrike">
                <a:solidFill>
                  <a:srgbClr val="990000"/>
                </a:solidFill>
                <a:latin typeface="Arial"/>
              </a:rPr>
              <a:t>rata je manja</a:t>
            </a: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.</a:t>
            </a:r>
            <a:br>
              <a:rPr sz="2800"/>
            </a:b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Sastoji se 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990000"/>
                </a:solidFill>
                <a:latin typeface="Arial"/>
              </a:rPr>
              <a:t>iznosa glavnice koji je jednak u svakoj rati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990000"/>
                </a:solidFill>
                <a:latin typeface="Arial"/>
              </a:rPr>
              <a:t>kamate na preostalu glavnicu.  </a:t>
            </a:r>
            <a:br>
              <a:rPr sz="2400"/>
            </a:br>
            <a:r>
              <a:rPr b="0" lang="hr-BA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Svaki je mjesec niža i kamata jer se obračunava  na sve manju glavni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Otplata u ratama omogućuje </a:t>
            </a:r>
            <a:r>
              <a:rPr b="1" lang="hr-BA" sz="2800" spc="-1" strike="noStrike">
                <a:solidFill>
                  <a:srgbClr val="990000"/>
                </a:solidFill>
                <a:latin typeface="Arial"/>
              </a:rPr>
              <a:t>bržu i jeftiniju  </a:t>
            </a: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otplatu kred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S obzirom da su početne rate znatno veće,  klijenti moraju imati puno </a:t>
            </a:r>
            <a:r>
              <a:rPr b="1" lang="hr-BA" sz="2800" spc="-1" strike="noStrike">
                <a:solidFill>
                  <a:srgbClr val="990000"/>
                </a:solidFill>
                <a:latin typeface="Arial"/>
              </a:rPr>
              <a:t>viša mjesečna  primanja</a:t>
            </a:r>
            <a:r>
              <a:rPr b="0" lang="hr-BA" sz="2800" spc="-1" strike="noStrike">
                <a:solidFill>
                  <a:srgbClr val="990000"/>
                </a:solidFill>
                <a:latin typeface="Arial"/>
              </a:rPr>
              <a:t> da bi ostvarili dostatnu kreditnu  sposobnost za ugovaranje kredita u rat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557000"/>
            <a:ext cx="8820000" cy="18003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menti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0" spc="-1" strike="noStrike">
                <a:solidFill>
                  <a:srgbClr val="990000"/>
                </a:solidFill>
                <a:latin typeface="Arial"/>
              </a:rPr>
              <a:t>68 88 2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ika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712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lika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920" y="981000"/>
            <a:ext cx="8820360" cy="25192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990000"/>
                </a:solidFill>
                <a:latin typeface="Arial"/>
              </a:rPr>
              <a:t>SVATKO IMA SVOJE ŽELJE </a:t>
            </a:r>
            <a:br>
              <a:rPr sz="4800"/>
            </a:br>
            <a:r>
              <a:rPr b="1" lang="fi-FI" sz="4800" spc="-1" strike="noStrike">
                <a:solidFill>
                  <a:srgbClr val="990000"/>
                </a:solidFill>
                <a:latin typeface="Arial"/>
              </a:rPr>
              <a:t>I PLANOVE</a:t>
            </a:r>
            <a:r>
              <a:rPr b="1" lang="hr-HR" sz="4800" spc="-1" strike="noStrike">
                <a:solidFill>
                  <a:srgbClr val="990000"/>
                </a:solidFill>
                <a:latin typeface="Arial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lika 3" descr=""/>
          <p:cNvPicPr/>
          <p:nvPr/>
        </p:nvPicPr>
        <p:blipFill>
          <a:blip r:embed="rId1"/>
          <a:stretch/>
        </p:blipFill>
        <p:spPr>
          <a:xfrm>
            <a:off x="0" y="260280"/>
            <a:ext cx="9591840" cy="4003920"/>
          </a:xfrm>
          <a:prstGeom prst="rect">
            <a:avLst/>
          </a:prstGeom>
          <a:ln w="0">
            <a:noFill/>
          </a:ln>
        </p:spPr>
      </p:pic>
      <p:sp>
        <p:nvSpPr>
          <p:cNvPr id="82" name="TekstniOkvir 1"/>
          <p:cNvSpPr/>
          <p:nvPr/>
        </p:nvSpPr>
        <p:spPr>
          <a:xfrm>
            <a:off x="2034000" y="4797360"/>
            <a:ext cx="39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IJEŠIMO ZAJED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8501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zervirano mjesto sadržaja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6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nline kreditni kalk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2240" y="1557000"/>
            <a:ext cx="8820000" cy="18003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Zadaci za va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lika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lika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992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2240" y="1557000"/>
            <a:ext cx="8820000" cy="18003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Hvala na pažnji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00"/>
                </a:solidFill>
                <a:latin typeface="Arial"/>
              </a:rPr>
              <a:t>jadranka.didovic@skole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00"/>
                </a:solidFill>
                <a:latin typeface="Arial"/>
              </a:rPr>
              <a:t>goran.knez@skole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RJEŠAVANJE STAMBENOG PITANJ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zgrada-d6-1_800_600"/>
          <p:cNvPicPr/>
          <p:nvPr/>
        </p:nvPicPr>
        <p:blipFill>
          <a:blip r:embed="rId1"/>
          <a:stretch/>
        </p:blipFill>
        <p:spPr>
          <a:xfrm>
            <a:off x="371520" y="1170000"/>
            <a:ext cx="394956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Slikovni rezultat za KUÄA"/>
          <p:cNvPicPr/>
          <p:nvPr/>
        </p:nvPicPr>
        <p:blipFill>
          <a:blip r:embed="rId2"/>
          <a:stretch/>
        </p:blipFill>
        <p:spPr>
          <a:xfrm>
            <a:off x="4643280" y="2997360"/>
            <a:ext cx="4213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KUPOVINU NOVOG AUTOMOBIL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2008_mazda_6_sedan_20090126_1370145742"/>
          <p:cNvPicPr/>
          <p:nvPr/>
        </p:nvPicPr>
        <p:blipFill>
          <a:blip r:embed="rId1"/>
          <a:stretch/>
        </p:blipFill>
        <p:spPr>
          <a:xfrm>
            <a:off x="387360" y="1187280"/>
            <a:ext cx="3668760" cy="264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Slikovni rezultat za NOVI AUTO"/>
          <p:cNvPicPr/>
          <p:nvPr/>
        </p:nvPicPr>
        <p:blipFill>
          <a:blip r:embed="rId2"/>
          <a:stretch/>
        </p:blipFill>
        <p:spPr>
          <a:xfrm>
            <a:off x="4284720" y="3573360"/>
            <a:ext cx="4133880" cy="24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likovni rezultat za NOVI AUTO"/>
          <p:cNvPicPr/>
          <p:nvPr/>
        </p:nvPicPr>
        <p:blipFill>
          <a:blip r:embed="rId3"/>
          <a:stretch/>
        </p:blipFill>
        <p:spPr>
          <a:xfrm>
            <a:off x="5148360" y="1411200"/>
            <a:ext cx="2879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OPREMANJE STAN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1422238350_enterijer-dvosoban-stan-1 (8)"/>
          <p:cNvPicPr/>
          <p:nvPr/>
        </p:nvPicPr>
        <p:blipFill>
          <a:blip r:embed="rId1"/>
          <a:stretch/>
        </p:blipFill>
        <p:spPr>
          <a:xfrm>
            <a:off x="1332000" y="1484280"/>
            <a:ext cx="6011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ŠKOLOVANJE U INOZEMSTV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2467b36e074b74b1e9e660941440fcc083b7c9fb"/>
          <p:cNvPicPr/>
          <p:nvPr/>
        </p:nvPicPr>
        <p:blipFill>
          <a:blip r:embed="rId1"/>
          <a:stretch/>
        </p:blipFill>
        <p:spPr>
          <a:xfrm>
            <a:off x="179280" y="1170000"/>
            <a:ext cx="4143600" cy="248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Slikovni rezultat za HARVARD"/>
          <p:cNvPicPr/>
          <p:nvPr/>
        </p:nvPicPr>
        <p:blipFill>
          <a:blip r:embed="rId2"/>
          <a:stretch/>
        </p:blipFill>
        <p:spPr>
          <a:xfrm>
            <a:off x="2627280" y="3789360"/>
            <a:ext cx="4824360" cy="236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likovni rezultat za world best university 2019"/>
          <p:cNvPicPr/>
          <p:nvPr/>
        </p:nvPicPr>
        <p:blipFill>
          <a:blip r:embed="rId3"/>
          <a:stretch/>
        </p:blipFill>
        <p:spPr>
          <a:xfrm>
            <a:off x="5005440" y="1419120"/>
            <a:ext cx="35319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Svakodnevno se banke u Hrvatskoj reklamiraju nudeći kredite pod </a:t>
            </a:r>
            <a:br>
              <a:rPr sz="3200"/>
            </a:b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„vrlo povoljnim uvjetima“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raiffeisen-02"/>
          <p:cNvPicPr/>
          <p:nvPr/>
        </p:nvPicPr>
        <p:blipFill>
          <a:blip r:embed="rId1"/>
          <a:stretch/>
        </p:blipFill>
        <p:spPr>
          <a:xfrm>
            <a:off x="425520" y="2060640"/>
            <a:ext cx="2468520" cy="155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pbz_logo_lightbox"/>
          <p:cNvPicPr/>
          <p:nvPr/>
        </p:nvPicPr>
        <p:blipFill>
          <a:blip r:embed="rId2"/>
          <a:stretch/>
        </p:blipFill>
        <p:spPr>
          <a:xfrm>
            <a:off x="6659640" y="2060640"/>
            <a:ext cx="155412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images (1)"/>
          <p:cNvPicPr/>
          <p:nvPr/>
        </p:nvPicPr>
        <p:blipFill>
          <a:blip r:embed="rId3"/>
          <a:stretch/>
        </p:blipFill>
        <p:spPr>
          <a:xfrm>
            <a:off x="5985000" y="5084640"/>
            <a:ext cx="2835000" cy="82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ages"/>
          <p:cNvPicPr/>
          <p:nvPr/>
        </p:nvPicPr>
        <p:blipFill>
          <a:blip r:embed="rId4"/>
          <a:stretch/>
        </p:blipFill>
        <p:spPr>
          <a:xfrm>
            <a:off x="425520" y="450864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ownload"/>
          <p:cNvPicPr/>
          <p:nvPr/>
        </p:nvPicPr>
        <p:blipFill>
          <a:blip r:embed="rId5"/>
          <a:stretch/>
        </p:blipFill>
        <p:spPr>
          <a:xfrm>
            <a:off x="3267000" y="1928880"/>
            <a:ext cx="3114720" cy="146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ddiko-Logo"/>
          <p:cNvPicPr/>
          <p:nvPr/>
        </p:nvPicPr>
        <p:blipFill>
          <a:blip r:embed="rId6"/>
          <a:stretch/>
        </p:blipFill>
        <p:spPr>
          <a:xfrm>
            <a:off x="3213000" y="3614760"/>
            <a:ext cx="4248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240" y="1557000"/>
            <a:ext cx="8820000" cy="18003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0" spc="-1" strike="noStrike">
                <a:solidFill>
                  <a:srgbClr val="990000"/>
                </a:solidFill>
                <a:latin typeface="Arial"/>
              </a:rPr>
              <a:t>Kredit</a:t>
            </a:r>
            <a:r>
              <a:rPr b="1" lang="hr-HR" sz="6000" spc="-1" strike="noStrike">
                <a:solidFill>
                  <a:srgbClr val="990000"/>
                </a:solidFill>
                <a:latin typeface="Arial"/>
              </a:rPr>
              <a:t>:</a:t>
            </a:r>
            <a:br>
              <a:rPr sz="6000"/>
            </a:br>
            <a:r>
              <a:rPr b="1" lang="fi-FI" sz="6000" spc="-1" strike="noStrike">
                <a:solidFill>
                  <a:srgbClr val="990000"/>
                </a:solidFill>
                <a:latin typeface="Arial"/>
              </a:rPr>
              <a:t>jednaki anuiteti ili r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00"/>
                </a:solidFill>
                <a:latin typeface="Arial"/>
              </a:rPr>
              <a:t>Jadranka Didović, profesor savjet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00"/>
                </a:solidFill>
                <a:latin typeface="Arial"/>
              </a:rPr>
              <a:t>Goran Knez, profesor me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00"/>
                </a:solidFill>
                <a:latin typeface="Arial"/>
              </a:rPr>
              <a:t>Gimnazija Žup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990000"/>
                </a:solidFill>
                <a:latin typeface="Arial"/>
              </a:rPr>
              <a:t>Danas ćemo se baviti sljedećim pojmov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k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anu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k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relativni kamatni fak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990000"/>
                </a:solidFill>
                <a:latin typeface="Arial"/>
              </a:rPr>
              <a:t>otplatna k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oran Knez</cp:lastModifiedBy>
  <dcterms:modified xsi:type="dcterms:W3CDTF">2019-04-10T20:27:17Z</dcterms:modified>
  <cp:revision>556</cp:revision>
  <dc:subject/>
  <dc:title>Diapositiva 1</dc:title>
</cp:coreProperties>
</file>